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E671-B048-4E41-8A22-73D22707B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CF83-2C03-4122-8D14-D87FDEFF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6F27-D851-4E23-8EF7-98DE3709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0D05-B346-4CD3-8451-34CC12CD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E38E-F270-40A0-B551-8804B694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0D60-227F-42ED-81C1-95D47903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7C74-FD28-43C3-A31D-F15C9D1F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8AE6-8386-44E9-97CF-4DF68AEB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F562-0431-4FA8-A8F7-EA27E86F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8C17-B259-462E-8082-EF4E0815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DAD3-9FE6-4A50-AC7F-3139E1CC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A367-9DDB-417A-8D83-86675E62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887A-EF19-4027-8B57-C43A4F32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B46F-EA13-435D-A647-9CB15EA3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BA62-9227-4491-A3D8-ECCA55BF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12E1-DEFE-4D60-B96C-A5546CE6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B097-E23B-4E9B-BC69-8FB9C6A1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1D990-6BC7-46B9-88A0-C4B6866B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15F6E-F3F6-4640-88C5-0C703C0D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868F1-2681-4FE0-82B0-E38E9501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E1C88-1D8D-4ABA-9257-A1CED401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32D6F-B024-47F5-BA7B-8B549AA9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B7ED-E53C-4CFC-B432-D8722E09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879E6-F04D-4C03-B2A5-ED7F5778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0092D-1DE6-418E-B901-E2D9C99E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5958C-4FBD-4A18-B5B2-F143D761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7E4F1-0162-44D1-8AFD-C5E28140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75BCC-93F0-4621-A4BC-AB39E498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529C7-244D-4D80-9B00-9B5EAFF75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39204-EDA3-4BE3-AA90-7E4E311A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BFF81-E79F-43D5-B074-A6423E1B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3BFBD-C876-42EE-8D61-5554DC7A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8B159-7067-44BD-A45C-2200FE62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C4AC-28F4-4C7B-872C-13DE584D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67D80-472E-4471-84D6-D1813193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E24E5-89BF-4A7D-89A3-EE6EFCB5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2A9CD-267B-453C-BC0D-BA955D47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5C52F-D36D-4013-AB7E-E00B4DF8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312AC-B4C4-4B18-9F54-5525B29F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15492-8717-41FF-B019-B0E50A1D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AD20F-3426-4FC2-A934-958A50FC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88FE8-794E-4498-B507-D8124D68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4D4A1-132F-426C-BD18-E835E0BA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6851-763C-4BD5-AD45-ED21051D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088B-6769-4AFC-9511-587DB809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B43C-BAAF-4A4F-B2FC-66BE13FB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A561-F506-4B96-B204-808937B9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61EB-F229-44B8-A2C2-4F2B4A30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43C9-CDC3-42E7-A6EE-A41F76F350F6}" type="slidenum">
              <a:rPr b="0" lang="pt-P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0910-FBA1-490E-9779-B77D752FFF5A}" type="slidenum">
              <a:rPr b="0" lang="pt-P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CC76-E3E2-4477-997E-3BD25B0E2F8B}" type="slidenum">
              <a:rPr b="0" lang="pt-P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7B90-C69A-44AF-B8B9-069A7F73739A}" type="slidenum">
              <a:rPr b="0" lang="pt-P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3" descr=""/>
          <p:cNvPicPr/>
          <p:nvPr/>
        </p:nvPicPr>
        <p:blipFill>
          <a:blip r:embed="rId1"/>
          <a:stretch/>
        </p:blipFill>
        <p:spPr>
          <a:xfrm>
            <a:off x="2633760" y="-6480"/>
            <a:ext cx="368136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Constantia"/>
              </a:rPr>
              <a:t>The capital city of sweden is stockhol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Rectangle 3" descr=""/>
          <p:cNvPicPr/>
          <p:nvPr/>
        </p:nvPicPr>
        <p:blipFill>
          <a:blip r:embed="rId1"/>
          <a:stretch/>
        </p:blipFill>
        <p:spPr>
          <a:xfrm>
            <a:off x="2475000" y="42840"/>
            <a:ext cx="44863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With 450,295 kilometers ², Sweden is the third largest country in the European Union in terms of area and has a total population of about 9.2 million inhabitants. Sweden has a low population density, with about 21 inhabitants per square kilometer, but with a considerably greater density in the southern half of the country. About 85% of the population lives in urban areas and </a:t>
            </a:r>
            <a:r>
              <a:rPr b="0" lang="pt-PT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it is expected that this number will gradually increase with urbanization that is still ongoing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Rectangle 3" descr=""/>
          <p:cNvPicPr/>
          <p:nvPr/>
        </p:nvPicPr>
        <p:blipFill>
          <a:blip r:embed="rId1"/>
          <a:stretch/>
        </p:blipFill>
        <p:spPr>
          <a:xfrm>
            <a:off x="2054160" y="-49320"/>
            <a:ext cx="490068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Population (2009 est.):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9,059,651 (growth rate: 0.1%); birth rate: 10.1/1000; infant mortality rate: 2.7/1000; life expectancy: 80.8; density per sq mi: 57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1" name="Rectangle 3" descr=""/>
          <p:cNvPicPr/>
          <p:nvPr/>
        </p:nvPicPr>
        <p:blipFill>
          <a:blip r:embed="rId1"/>
          <a:stretch/>
        </p:blipFill>
        <p:spPr>
          <a:xfrm>
            <a:off x="2120760" y="165240"/>
            <a:ext cx="500544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3" descr=""/>
          <p:cNvPicPr/>
          <p:nvPr/>
        </p:nvPicPr>
        <p:blipFill>
          <a:blip r:embed="rId1"/>
          <a:stretch/>
        </p:blipFill>
        <p:spPr>
          <a:xfrm>
            <a:off x="2554200" y="-549360"/>
            <a:ext cx="4498920" cy="15796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/>
          <p:cNvSpPr/>
          <p:nvPr/>
        </p:nvSpPr>
        <p:spPr>
          <a:xfrm>
            <a:off x="428760" y="3143160"/>
            <a:ext cx="7143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Swedi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Constantia"/>
              </a:rPr>
              <a:t>We can get there by plain and by bo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Rectangle 3" descr=""/>
          <p:cNvPicPr/>
          <p:nvPr/>
        </p:nvPicPr>
        <p:blipFill>
          <a:blip r:embed="rId1"/>
          <a:stretch/>
        </p:blipFill>
        <p:spPr>
          <a:xfrm>
            <a:off x="1432080" y="-262080"/>
            <a:ext cx="665136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Constantia"/>
              </a:rPr>
              <a:t>The capital city is a very beautiful place to se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Rectangle 3" descr=""/>
          <p:cNvPicPr/>
          <p:nvPr/>
        </p:nvPicPr>
        <p:blipFill>
          <a:blip r:embed="rId1"/>
          <a:stretch/>
        </p:blipFill>
        <p:spPr>
          <a:xfrm>
            <a:off x="1639800" y="-189000"/>
            <a:ext cx="57308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Rectangle 3" descr=""/>
          <p:cNvPicPr/>
          <p:nvPr/>
        </p:nvPicPr>
        <p:blipFill>
          <a:blip r:embed="rId1"/>
          <a:stretch/>
        </p:blipFill>
        <p:spPr>
          <a:xfrm>
            <a:off x="2335320" y="-189000"/>
            <a:ext cx="3705120" cy="1579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142920" y="1571760"/>
            <a:ext cx="4286160" cy="2714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3"/>
          <a:stretch/>
        </p:blipFill>
        <p:spPr>
          <a:xfrm>
            <a:off x="5357880" y="1428840"/>
            <a:ext cx="32148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2:11:12Z</dcterms:created>
  <dc:creator>Ruizytuh</dc:creator>
  <dc:description/>
  <dc:language>en-US</dc:language>
  <cp:lastModifiedBy>Ruizytuh</cp:lastModifiedBy>
  <dcterms:modified xsi:type="dcterms:W3CDTF">2009-12-09T11:26:00Z</dcterms:modified>
  <cp:revision>4</cp:revision>
  <dc:subject/>
  <dc:title>Slide 1</dc:title>
</cp:coreProperties>
</file>